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E16-A689-426F-BC04-2F09198A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BE3-693C-4103-9B3C-A446693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5C5-C17C-460B-9008-78CB8B94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E21-62C7-43E5-8B7A-8A36EAD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845-0F42-4CD9-B455-6BFEC31C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B18-C102-4B16-854F-0334EE7E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C1C-6DA3-4C84-8B1D-425E9A2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D37-0F2D-4DCF-9B6C-4BBFBAF2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B71-2E9E-431C-936A-2E16667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0DD-3C34-4D0D-8D18-ACDBC62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F6D-DAA8-4300-9CE1-C2B1B66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E5D-7FD9-4725-B772-8E4210A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3B4-AD80-496D-A71D-836E3D72F32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Hi-Tech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M4 Corri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Corri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industrial regions in Britain have tended to grow up along main communication rou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example of this i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Sunrise Strip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takes in the area around motorways such as the M11, M23, M3 and, most importantly, the M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dustries are described as be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tloos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y have generally grown up over the last 25 years in "growth areas", along communications rou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y do bring prosperity to regions, the new industries actually employ few people in comparison to the older, declining, heavy industr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 location factors have been super-seeded by newer 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ther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s access to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aw materials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is relatively unimportant nowadays, location, although dominated by communications considerations, also can increasingly take into account the social needs of its employe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us climatic, scenic, health and entertainment factors have to be include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turn the industries try to locate near to places where a skilled workforce could be employed, such as around the university towns of Oxford or Cambridg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nrise Strip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motorway system, which allows easy access to all parts of the United Kingdom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asy access, via the roads, to the Channel Tunnel and ports to allow export abro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lose proximity of Heathrow, Gatwick, Stanstead and Luton airports, all of which could be used to export product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skilled workforce found in university towns of Oxford, Cambridge, Reading and Bristo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nrise Strip 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se proximity and good access to London, where the major government functions and financial trading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ncentration of other industries means that ideas and knowledge could be shared, there will be a concentration of suitable skilled labour and transport costs may be reduced between agglomerated indus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very attractive natural environment, which would provide a very pleasant place to live for the worke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as such as the Cotswolds and the Mendip Hills are in easy reach of the Sunrise Stri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amples Of Similar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 Silicon Glen in Central Scotlan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 Silicon Valley in California, US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4:09:22Z</dcterms:created>
  <dc:creator>Dell_02</dc:creator>
  <dc:description/>
  <dc:language>en-US</dc:language>
  <cp:lastModifiedBy>Dell_02</cp:lastModifiedBy>
  <dcterms:modified xsi:type="dcterms:W3CDTF">2011-01-27T04:16:39Z</dcterms:modified>
  <cp:revision>1</cp:revision>
  <dc:subject/>
  <dc:title>Hi-Tech Industry</dc:title>
</cp:coreProperties>
</file>